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9C9-38B7-4619-81BD-F616EC93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049-4CFD-4E72-A97D-6B03A101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51F-0FDD-46DE-B8A5-230A7C77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D79-A0FC-4449-ACB1-9D8385C3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9E31-6534-4AAF-B97D-98C7E7EA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3573-C88A-403C-8116-69300E19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5E71-3771-4473-BF88-08B69CDE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FCE6-2789-4533-959B-BF181B29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1B1A-CA43-4FB1-A79B-C4B3C451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3C98-9FDD-46D9-B2BB-C5D0A19E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2D35-9EA0-4B4D-9B63-279E95E0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DFC-FDF6-4607-90DA-62DEC75C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483D-DCF0-4367-8695-DCD32DE7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1026-212D-417B-A6B0-7712638F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1E3A-500D-4F98-B307-6A2EBB48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4AE6-D83D-4CC9-B73B-4E52B723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E1DA-24E8-45BE-B047-5CBC423E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1A0-377D-4FA9-AC85-AAB70D49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3C9-60CE-464C-9A8F-68E3FFE1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B80-428C-4F63-920B-03AF952C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C1C-D467-4C38-BF5E-F659BCC5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D10-32CF-4C2C-AE66-CF78F740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AC1-5D43-47B3-BF01-FBE2046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5D5-F604-44F2-84C4-AE4D568D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0C67-3C7C-46E8-BEAF-CA2AF72A5716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A9D9-8BFE-4C86-A4DB-489C08843B7C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39720" y="1447920"/>
            <a:ext cx="481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Lesson twent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840" y="2895480"/>
            <a:ext cx="61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One man in a boa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46960" y="905040"/>
            <a:ext cx="9044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What’s your favourite spor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2. Does it worry you if you don’t catch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3. Do you often fish without catching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4. Are all fishermen unluck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5. But some are, aren’t the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6. What do they catch instead of fis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7. Why do you think you are even less lucky than the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fisherme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8. Where have you spent whole morning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9. What do you always go home wit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0. What do you friends say you must do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1. What do they say about fis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2.What are you really interested 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25200" y="781200"/>
            <a:ext cx="805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Fishing—favourite s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2.often—hours—any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3. some—luck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4. Instead—fish—boots—rubb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5. I—l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6. never—even—boo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7. whole mornings—river—home—emp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8. ‘give up’—frieds—’waste—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9. don’t realize—important 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0.not—interested—f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1. only—sitting--no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4120" y="835200"/>
            <a:ext cx="919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Key to summary writing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Fishing is the writer’s favourite spor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.Some unlucky fishermen catch old boot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and rubbish.Thewriter is not so luck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He never catches anything.He is no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sted in fishing. Sitting in a boat an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Doing nothing at all is the only thing that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ests him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2:03:38Z</dcterms:created>
  <dc:creator/>
  <dc:description/>
  <dc:language>en-US</dc:language>
  <cp:lastModifiedBy>钱良</cp:lastModifiedBy>
  <dcterms:modified xsi:type="dcterms:W3CDTF">2002-07-08T02:30:33Z</dcterms:modified>
  <cp:revision>1</cp:revision>
  <dc:subject/>
  <dc:title>PowerPoint 演示文稿</dc:title>
</cp:coreProperties>
</file>